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1680" y="380160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20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24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680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168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24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680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01320" y="142560"/>
            <a:ext cx="56214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820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1680" y="380160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820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8924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7680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0168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8924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7680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1320" y="142560"/>
            <a:ext cx="56214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20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1" name=""/>
            <p:cNvSpPr/>
            <p:nvPr/>
          </p:nvSpPr>
          <p:spPr>
            <a:xfrm>
              <a:off x="0" y="5950080"/>
              <a:ext cx="9144000" cy="90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542880" y="6024600"/>
              <a:ext cx="165564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22320">
              <a:solidFill>
                <a:srgbClr val="9c8d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299360" y="5996160"/>
            <a:ext cx="1295280" cy="815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15354" t="4987" r="25172" b="25197"/>
          <a:stretch/>
        </p:blipFill>
        <p:spPr>
          <a:xfrm>
            <a:off x="8164440" y="0"/>
            <a:ext cx="979560" cy="6476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rcRect l="3617" t="0" r="18233" b="8661"/>
          <a:stretch/>
        </p:blipFill>
        <p:spPr>
          <a:xfrm>
            <a:off x="6192720" y="0"/>
            <a:ext cx="986040" cy="6494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rcRect l="15871" t="11286" r="18085" b="11286"/>
          <a:stretch/>
        </p:blipFill>
        <p:spPr>
          <a:xfrm>
            <a:off x="7178760" y="0"/>
            <a:ext cx="985680" cy="6494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192720" y="844560"/>
            <a:ext cx="2951280" cy="0"/>
          </a:xfrm>
          <a:prstGeom prst="line">
            <a:avLst/>
          </a:prstGeom>
          <a:ln w="22320">
            <a:solidFill>
              <a:srgbClr val="9c8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192720" y="1092240"/>
            <a:ext cx="2951280" cy="0"/>
          </a:xfrm>
          <a:prstGeom prst="line">
            <a:avLst/>
          </a:prstGeom>
          <a:ln w="22320">
            <a:solidFill>
              <a:srgbClr val="9c8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219720" y="853920"/>
            <a:ext cx="292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nect. Communicate. Collabo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grpSp>
          <p:nvGrpSpPr>
            <p:cNvPr id="50" name=""/>
            <p:cNvGrpSpPr/>
            <p:nvPr/>
          </p:nvGrpSpPr>
          <p:grpSpPr>
            <a:xfrm>
              <a:off x="0" y="5943600"/>
              <a:ext cx="9144000" cy="914400"/>
              <a:chOff x="0" y="5943600"/>
              <a:chExt cx="9144000" cy="914400"/>
            </a:xfrm>
          </p:grpSpPr>
          <p:sp>
            <p:nvSpPr>
              <p:cNvPr id="51" name=""/>
              <p:cNvSpPr/>
              <p:nvPr/>
            </p:nvSpPr>
            <p:spPr>
              <a:xfrm>
                <a:off x="0" y="5950080"/>
                <a:ext cx="9144000" cy="90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2880" y="6024600"/>
                <a:ext cx="16556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0" y="5943600"/>
                <a:ext cx="9144000" cy="0"/>
              </a:xfrm>
              <a:prstGeom prst="line">
                <a:avLst/>
              </a:prstGeom>
              <a:ln w="22320">
                <a:solidFill>
                  <a:srgbClr val="9c8d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2943360" y="60832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299360" y="5996160"/>
              <a:ext cx="1295280" cy="8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03040" y="141120"/>
            <a:ext cx="2335320" cy="951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92720" y="844560"/>
            <a:ext cx="2951280" cy="0"/>
          </a:xfrm>
          <a:prstGeom prst="line">
            <a:avLst/>
          </a:prstGeom>
          <a:ln w="22320">
            <a:solidFill>
              <a:srgbClr val="9c8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92720" y="1092240"/>
            <a:ext cx="2951280" cy="0"/>
          </a:xfrm>
          <a:prstGeom prst="line">
            <a:avLst/>
          </a:prstGeom>
          <a:ln w="22320">
            <a:solidFill>
              <a:srgbClr val="9c8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rcRect l="15354" t="4987" r="25172" b="25197"/>
          <a:stretch/>
        </p:blipFill>
        <p:spPr>
          <a:xfrm>
            <a:off x="8164440" y="0"/>
            <a:ext cx="979560" cy="64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rcRect l="3617" t="0" r="18233" b="8661"/>
          <a:stretch/>
        </p:blipFill>
        <p:spPr>
          <a:xfrm>
            <a:off x="6192720" y="0"/>
            <a:ext cx="986040" cy="64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rcRect l="15871" t="11286" r="18085" b="11286"/>
          <a:stretch/>
        </p:blipFill>
        <p:spPr>
          <a:xfrm>
            <a:off x="7178760" y="0"/>
            <a:ext cx="985680" cy="64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219720" y="853920"/>
            <a:ext cx="292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nect. Communicate. Collabo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nmdev.lrz-muenchen.de/e2e/lhc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ÉANT2 update - I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25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to Kreiter, D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2E monito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P/DOWN status monitored across domains for p2p circu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5 domains have deployed the MPs (measurement poi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ualization tool developed by GN2-JRA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ly used by the E2ECU and NR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ouraging the different domains to include sub-wavelengths info in their MP/MA (ie. GE connection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ndbox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nmdev.lrz-muenchen.de/e2e/lhc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2EC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2ECU DOES 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nitor End-to-End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d alerts about outag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&amp; m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age information fl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tween doma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2ECU receives fault alerts from :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-to-End Monitoring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Cs by e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se entities can send tickets to E2ECU :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mpus Network Administr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REN NO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ANT2 N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ckets sent out to parties involved in a particular project, except e.g. research scientists themselv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rfSONAR - MD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540640" cy="44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rvice desk to support the Multi Domain Monitoring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rt perfSONAR products developed by GN2-JRA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P performance 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ilot phase of the service being set up  by JRA1 and SA3 GN2 activities for 5 NR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NTE Operations collaborating in setting up the service de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oking for projects interested in the future to have the MDM service impleme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ing summ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2ECU fully serving the p2p community of LHC &amp; IGT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isa on his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y to uptake other projects – EXP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olved domains should install the required MP and MAs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list the GE p2p links as well (currently mostly wavelengths are show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 may be interested in the MDM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urement upd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ivity procurement on-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ders “will be” for dark fibre if feasible, else 10Gb/s or 2.5Gbps waveleng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issues are connectivity to existing network and resil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r hardware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final phase – tender answers back 2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pt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ing for hardware to replace old equipmen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issue: a packet network for the futur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11:15:43Z</dcterms:created>
  <dc:creator>Otto Kreiter</dc:creator>
  <dc:description/>
  <dc:language>en-US</dc:language>
  <cp:lastModifiedBy>Otto Kreiter</cp:lastModifiedBy>
  <dcterms:modified xsi:type="dcterms:W3CDTF">2007-09-19T08:01:22Z</dcterms:modified>
  <cp:revision>15</cp:revision>
  <dc:subject/>
  <dc:title>&lt;Presentation Title&gt;</dc:title>
</cp:coreProperties>
</file>